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392-53B7-4EE6-8F29-E8645BBD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ECB-5752-4289-AA18-3FDE72B0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2564F-DD38-432F-95DB-4A1E5A3F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F7A18-9E39-468F-91C5-BB389D6C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10C36-BCA5-4DD0-B210-F89C4A25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4D057-ABE3-4FD0-B336-704CC96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C9256-2970-4E76-916E-C787542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0C9C7-1A53-4BE9-B041-38A8E72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29DB0-957B-4530-B5F4-5D433764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F00A3-00CB-408D-942F-46E41286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1AAB0-D111-447D-A25B-A76FC75A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87192-163F-496F-9052-04F830DE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43B-8815-4E67-AE15-D6505C7F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9C556-EA02-4D4E-A4E7-1115CBC1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6ECEE-ED66-4871-A0C2-8DA37E6C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BCC1C-371B-4BA3-82D7-A1C3C1B6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FE832-C893-4EC5-BC62-3B91E60E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2D92C-6BD6-4C04-82DD-D0012E6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9BE0A-A248-4D09-B245-DB7F389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63242-9E8C-4259-A1C4-64CB156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7B412-AD53-4272-AA83-79544B5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841FF-043B-4B4A-AE6F-BCFFC8F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007FB-D241-4EEC-87DF-96C0A097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5A7-3F28-45A8-944F-4826960F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F1C4C-9A27-4CC2-AA0B-C326D59B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1B767-BEED-4F20-9F29-95CD4F46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5123B-1B6C-4639-B933-DBEDFA81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91B4A-B3B3-4809-9FD1-18E0D90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79CB4-4474-4D2C-92A5-A218132D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F10B6-66B1-4514-989B-C52BF1DD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6A8B3-953D-4280-B921-D51C186E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D50D1-5204-4CD9-B106-5E71F12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8E1AC-E8D9-4551-B0E2-953DBDA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C333C-39CA-4D0D-9073-1CB0900F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3364-DD90-4D9B-8022-3A93BAC0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F0927-FEB3-4B11-8E13-214DFE6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8FF55-8E05-4173-99F1-AE852184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9AAC-0C5E-432C-A655-3D667664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A7E63-880B-4783-A798-C30EAE36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98F90-9540-4E35-AB70-D254C127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80280-9288-4C5E-A32B-A685B4A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74570-A5E0-4E4D-9114-D6AD17B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C3D5C-2E5E-485A-AE9F-C8EC8134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8188F-D780-4A31-911A-FFB765E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24498-782B-470A-B79A-AC2139A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910E-C1B5-4473-9B23-641D57DE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B8475-BB0C-4896-81CD-A00B4C3E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C6FD7-7E8D-43B7-B933-6C54EC6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FB9EC-7A37-44BE-BA67-FBB56BB5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8EFB4-E99B-4F9F-94F1-21270B0B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B784C-E97F-450A-9EB3-D929E814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6076C2-5246-4BF3-9A0D-0EE3D891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F13E8A-533D-4DF5-B647-72B8616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18104-EE1A-4F1A-AD5E-49FA3995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5634B7-AB71-4F1F-BB26-AAC23629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29F482-BE6F-43DB-8BEB-7A077FE8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E0D9-616A-4E8A-8C1F-DBD76C5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6C2554-66AC-4A8F-8046-C92A4FA0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47DF6D-BFC9-4D3F-9B50-AEBEE6DA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8D4870-ADE6-44AC-A77F-C0FC1FD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F055B5-8ADA-4AE8-82B0-1953787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8C0ED8-F670-410F-AEA3-56CA762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96FF5B-B293-4A13-BE9B-522F0B9A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44F401-42CA-4C5D-AA7B-17586AE8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39E51-90E5-4773-85D6-712BB632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3B877-7539-43D4-A87E-51DCAE38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E9BF0-20E5-461E-8D87-8E33F408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A2C2-F414-4E6E-9814-35D6967C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732F7-20CE-4DF4-BD23-A4351B8C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1D52E-872B-49C5-BA2E-60BEF6A0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2D4CA-5481-4088-8A17-C44DB98B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AB3A0-14F5-4CA0-8E84-A1105C5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322EF-651F-4D70-B82F-609CE4C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26B62-12AD-4389-B395-710DC8F9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AC271-2393-49EF-A977-C73BAEA1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57C52-BCF7-4E7C-924D-FED8C194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8D7B3-FC7A-4DF5-9665-9BCD4BF2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19FC2-3D4B-4226-BCA4-9A5DCE4D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4694-21F8-46AD-B9C3-27263D0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87423-CAF2-41A5-A5B9-D118363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DABB3-3BCA-4FF0-A27B-CFB4B3D3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6822A-8A5D-4DE3-8C13-840C4E5E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036E7-4D02-43E5-BA21-606BBF4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EAB5C-A723-432E-A496-72ACD106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3C0E4-2EBF-433D-BDA7-A85D146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10DC8-F9C0-4235-A9CE-96BBB4E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C28CA-F121-4757-9C18-CC00364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495BB-78C2-4E08-8526-2CD01744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B9FC4C-A7A6-4526-91D1-BFE7D0AB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019-9E54-43C2-88C0-F0E7F55F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A79F10-0FEF-4760-B5C3-610A85FD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34C4C-573F-4F28-A1FF-AD279177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35E17-9639-4A34-AA58-630456B7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15AC3-CF1D-4D2B-BF7C-76FC3388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A6E37-76CD-41BB-9691-90180E97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BB435-15D1-4998-8BAC-47264201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C7839-1AB8-44B0-AB21-7ACE029E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C0188-0646-40E5-BACB-57BF531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CEA86-6242-4615-BC38-45CFC57E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CCE44-CECA-4C48-A6CA-B2E33A9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F865-7C20-4D65-A7D3-143FA64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23887-5724-49E9-9996-CE770C25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756FE-8357-4A80-A63D-C2ABD789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F1FBA-FC9D-4684-A297-4A97A1E4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BABFF-A9C5-4185-93A8-E31A2046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95AE1-DBD9-4C6C-AAC9-6E7A507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5E006-BF53-46B0-9386-FD21F97F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D5B9C-0B7D-4FEC-9922-63ECD3E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04CD0-48D9-40DF-B1C6-F4D4DE8D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9BCCD-47DF-4CC2-A6CB-5C95CB52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98091-B553-4C2C-8090-2550AB9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B6F-2B0A-4FF4-B893-87A1F3A1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A0A9-C211-4F41-86CD-871E04B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1B472-FDEF-4FFA-BDFB-C108C3A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8CD6A-4CAA-4E6B-B14D-7EBE1BE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D299E2-7BEA-4C57-9940-F36E94FD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093D2-EC98-4771-BCE0-467B6A1B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27F6A-C2B3-4892-8AF9-62555AEB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7BC8F-E3FE-47D9-9964-0A2AADA2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D406C-D43C-43E7-8CDB-87DF42A3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1306D-03DD-4D12-9E98-73570C14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26A19-E698-4056-9CF0-D6AD58D2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4F318-4A52-41F7-A803-06673123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409-38FA-4347-B122-895AE1DF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802E0-A061-4FE8-AB9C-30FA9DA3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49E5D-BE69-4470-A6E5-17F5CA4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82E8E-B73A-46D2-8D9C-0057CE99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A9C03-AC45-4A2D-9F9E-232F434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82041-B1D5-48E4-8BBA-6CFDA270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1012C-530A-4640-AC51-11A89F7A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0DA8E-A688-41D3-B9BB-6EB7C855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70BF4-8748-43E0-872A-BBAA0640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06470-0DD4-45F2-9430-B6183E5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9DB6B-4A6B-4917-A3E0-46C41A29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B49-BC23-4EE3-B553-D2067D4F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6EDB5-88CB-43F1-80AE-48111895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B5A9E-0CB5-4668-852A-62D1681E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BD892-6E09-486B-A43D-282BB439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E4245-DAA8-47BF-8EDF-D51EE68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949C3-71D0-4402-B183-EAEB451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933BA-46E7-48A8-873F-C62C359A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6DEDE-3535-4CDA-9583-F06E23FB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BDD0B-5AF5-4F56-B7B1-B7008430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F21E2-6323-4C31-99F4-C085829F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C95D-A678-4F30-885B-5C9F5976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7722-1073-409A-BC5B-F2293273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ADA5-27EB-4463-832B-690E3A57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2192D-0671-4B5B-A9B6-BE3A4902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8674-5349-4C34-9944-6EA998E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955B-51B3-4150-B752-D35CB446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E719-2AFA-4054-B864-4DF28E23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146-027C-4E93-8B88-B386419D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96B2-C905-4D8D-842E-0F8A5D43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267E-C54D-4CCE-A60C-B5F1DB5C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BF7B-6AFA-4F21-A593-C7FD2F7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EF65-AAD3-4AC0-9652-6B3F786D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90B9-176F-4C8D-8B6E-DF4A49CF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1B0D-01DF-4470-9225-976C6FCC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BDB1-2CD3-4F4E-9D36-C0BF11D2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B9ADF-29A8-41CA-A741-46651EC0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BE33-6D3D-4BDD-8F1C-920A52D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FD1A6-255F-41DD-B211-3CB69946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E30D-4F18-4902-8DB1-641F51B9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428C-B582-4465-B462-06A8564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F690-7B4F-47A1-BAA5-5478404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40E4-69B8-434F-9572-BA2AC73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E9E3-2E54-4BBE-B656-08E8F51C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C600-5E7A-4165-8E5B-E86752B9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0D5E-2293-4578-B2B3-BEAB765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9FC9-42F2-4DA2-8E1C-3907C49D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5BB9-FCA2-478F-95DA-55CDD6D0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67C3-D1F5-48C2-B13D-2E5DD1AC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6386-1827-4A29-B73F-4D59F8AE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B46-EC65-4429-8AD3-8CCDCCB8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17972-4D73-4C2B-91A3-5C125F76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8671-0C8C-4E90-9CA6-E44C55FD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7688-85F3-403D-9626-84F08FC3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2675-C0A1-4FDA-9D21-36DB22FF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8A219-189B-4D27-A0FF-0432A1A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23A0-6484-4135-8A2E-CF647DC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6E78F-FE3A-4971-9A96-BE80782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05B1E-F051-4061-9CC4-ADBA5F7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8860-C83E-4A72-8D6B-AA6A0599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B28E9-E1EF-4D1A-AB68-9A802B31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358-7010-4DE2-8A4A-71156BD9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A66A-6090-49BC-A7EB-7E786946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B6611-859B-4C72-A18D-277F8CA8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C1F14-669B-47C4-B82B-F38293EF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DAD43-147F-4725-8830-749ACEEF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24A6-15E9-454E-AEBC-42D4E525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1B3E-B6A3-4896-B43D-6C9F7DCA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B02A-9011-44DF-9673-70C99CBA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5BEDD-B7F7-4758-82A6-31B9FCF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29488-9179-4CDC-93BB-11AD61C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47A5-E3FB-4E42-B8D7-EB4C2EF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F37-AF35-4BEE-908E-F71ABC6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E522-9324-421D-9307-7CA5297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611BF-05C6-4DC7-B755-4892BE5A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CDA6D-EB49-4B4C-A55B-0220EB6B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35306-1F47-4F4D-BCAB-34DFF9DD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3B6CF-B830-4501-BDB6-32A38B0C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86BF0-ED6A-4256-B7B2-BF96242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E8532-FA31-43DC-91ED-2FE03709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DF6D1-DE24-499A-9F56-8DFC28AB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AED34-1F3C-4EF3-852C-B9D5272A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71648-89B2-4621-A237-B4A4A71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962-8260-4EA8-9289-45E69B2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3B995-CA16-4D6B-9947-7B0F9D2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3C5FB-45BE-4626-A6AD-9A6A07F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EABE-6170-43CD-8FA1-64476DA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AC82-BF95-40E4-A189-C98E842E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D1F0-9579-45FF-AF1A-8670BBAA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44432-CF8F-462E-B75C-A1E70C19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833F7-C8C1-4F39-B6B1-A6171CD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1885A-EE98-44CA-BAA5-0DF26260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DBD07-17F5-45EC-8491-C57FAA12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BA1D8-E457-4D15-99DA-9F1A3438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327-373B-4117-B264-7E6C9DF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C4AD5-42CE-41F8-B642-649AAA13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96BC-CFC7-41F8-AB99-3FA86BF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51EB0-72CF-4B0A-A772-FE1AAA7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DC123-2D28-4121-AA18-53486394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5113-CB1D-4003-A6B1-99BE585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969D3-13C0-466D-8BDA-519A434D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BDDAC-D60F-4806-921B-C1E1AD6E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7A2E3-0149-44CD-9AB5-159EF466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4DE51-E879-4204-8AC7-F324F6B5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DCBE6-CEA8-42AB-86B8-C1A6F487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734A-1F78-4AE0-9756-12C479348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87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9E56-9D48-4860-A740-AEB3F3384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2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4FA8-DE05-4D3F-A7A3-C2A4FD3BB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D682-AAA8-4E0B-9F91-FBC2F94CB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C72B-F0AB-4FE9-9CCE-87F43A68B6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4B8-E557-4AA4-9790-97C8B81C29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DC8E-364B-49F2-8357-185C21CC4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8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0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8F1-C40D-4080-8B10-FCB830F1BD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58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58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9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dt" idx="4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921E-C1D9-4A0B-BBB0-0E0DDC9203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7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7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9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dt" idx="5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ftr" idx="5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5EA-0EDA-4E95-B80C-C7634329F15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7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7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2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2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dt" idx="5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ftr" idx="5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sldNum" idx="5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D9C-EA80-4F36-9895-5B0C72C99BF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E176-CC10-48E9-BA41-DA6859DDC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230E-FC44-4E1A-9453-DD6B07D9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8292-BBC6-41FF-883A-58C2A9BD1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8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5FA3-3357-443C-9FCD-EA9E1B10B5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B61F-1162-48C5-8CE8-A1D9928706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6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6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7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7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3358-4EAC-4521-B951-623D270C0E6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4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4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5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6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3D50-CBF3-405C-8DF6-C89DE4642C3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61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863-32A2-467D-9378-69AA776E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seoner.com/images/2012/10/Unique-Round-Conversation-Pit-Seating-with-Wooden-Floor-and-Fancy-Chandelier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0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a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Becca R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3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3248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. El garaje es muy moderno y intel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2" name="" descr=""/>
          <p:cNvPicPr/>
          <p:nvPr/>
        </p:nvPicPr>
        <p:blipFill>
          <a:blip r:embed="rId1"/>
          <a:stretch/>
        </p:blipFill>
        <p:spPr>
          <a:xfrm>
            <a:off x="1752480" y="2670120"/>
            <a:ext cx="60771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a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asa. Es muy grande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6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9339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uy lujosa y fant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9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581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omedor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omedor. Es muy perfecto y fabulos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2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sala. La sala es muy estupenda y peq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5" name="" descr="Living Room, Comfortable Lounge Conversation And Fancy Sitting Area: Unique Round Conversation Pit Seating With Wooden Floor And Fancy Chandeli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2209680"/>
            <a:ext cx="66150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. El 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es muy moderno y boni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8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638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uar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uarto. El cuarto es muy incredíble y bell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1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4008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. El patio fantasía y impresio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7909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 un jardin. El jardin es muy bello y bonit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07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56236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0:26Z</dcterms:created>
  <dc:creator>rosereb</dc:creator>
  <dc:description/>
  <dc:language>en-US</dc:language>
  <cp:lastModifiedBy>rosereb</cp:lastModifiedBy>
  <dcterms:modified xsi:type="dcterms:W3CDTF">2013-04-04T17:21:06Z</dcterms:modified>
  <cp:revision>11</cp:revision>
  <dc:subject/>
  <dc:title>La Casa</dc:title>
</cp:coreProperties>
</file>